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6935-93FB-449A-A21F-BC1127EB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94F-C253-49AE-BCF8-7B0D4B08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F12-33EB-405A-818C-964C7B6B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66A-F8BA-48AC-8BE0-FD44F556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3FF6-A576-41CF-B00D-21FD68BF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2080-EBFC-459F-AE64-9432A8B0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1A24-B914-41E9-9EBF-E033549E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30AA-B4FF-415A-8115-F4DEA5B3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D648-CD9F-4A0B-94C5-1894BC01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1806-47FF-4F18-8709-D2E15B72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A85B-B056-4DBC-9C78-EA321B7A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7DA-F431-40F0-8F91-1D81B0F9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08EB-11A9-4192-ACCA-005CEDB7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F531-45EF-4594-A209-6A6A4363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520E-4B80-4A1A-9AC9-1E43520C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6DB5-898E-4E74-8BF8-F7CBC422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486A-7EB9-4F89-820A-9A698B01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F4B-6BC3-46E6-A75D-03D3115F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34D-B506-4BBA-A0AD-A3E816BD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6B6-820D-42A7-A429-64DFFA59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9F8D-40B3-4215-9E5C-0A79C897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58F-8451-4F48-A4D7-3332F1D8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EAF-58E7-498C-9C76-250616AF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7A9-EAE8-4251-954D-FE34259D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477120"/>
            <a:ext cx="1295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FFE6-ADBB-423A-B0CC-ECF20A283068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997E-C5A1-4D17-A935-B17D41C81FA5}" type="slidenum">
              <a:rPr b="0" lang="en-AU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817227"/>
                </a:solidFill>
                <a:latin typeface="Arial Black"/>
              </a:rPr>
              <a:t>Cells and Systems</a:t>
            </a:r>
            <a:endParaRPr b="0" lang="en-US" sz="44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08000" y="3657240"/>
            <a:ext cx="4902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Blepharisma ciliate  Contractile Vacuole in Action.avi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Cell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3300"/>
                </a:solidFill>
                <a:latin typeface="Arial"/>
              </a:rPr>
              <a:t>Read the handout and complete the following questions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What do all living things have in common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What is a eukaryote and a prokaryote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What does a cell membrane do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0920" y="1844640"/>
          <a:ext cx="8702640" cy="3292560"/>
        </p:xfrm>
        <a:graphic>
          <a:graphicData uri="http://schemas.openxmlformats.org/drawingml/2006/table">
            <a:tbl>
              <a:tblPr/>
              <a:tblGrid>
                <a:gridCol w="1368360"/>
                <a:gridCol w="1117440"/>
                <a:gridCol w="1244880"/>
                <a:gridCol w="1242720"/>
                <a:gridCol w="1243080"/>
                <a:gridCol w="1243080"/>
                <a:gridCol w="1243080"/>
              </a:tblGrid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unction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imalia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ungi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ntae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tocista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karyote</a:t>
                      </a:r>
                      <a:endParaRPr b="0" lang="en-US" sz="1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cells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cleus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ell Wall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arge Vacuole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hloroplasts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817227"/>
                </a:solidFill>
                <a:latin typeface="Arial Black"/>
              </a:rPr>
              <a:t>Student Knowledge and Skills</a:t>
            </a:r>
            <a:endParaRPr b="0" lang="en-US" sz="36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059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00"/>
                </a:solidFill>
                <a:latin typeface="Arial"/>
              </a:rPr>
              <a:t>WHAT YOU WILL LEARN BY THE END OF THIS UNIT: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List the main parts of a microscop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2060"/>
                </a:solidFill>
                <a:latin typeface="Arial"/>
              </a:rPr>
              <a:t>How a microscope work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differences between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components of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jobs performed by different plant and animal cell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The jobs performed by different tissues in animals and plant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How to make a wet mount and stain the mount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2060"/>
                </a:solidFill>
                <a:latin typeface="Arial"/>
              </a:rPr>
              <a:t>Make an accurate drawing of a cell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25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25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25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25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25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25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25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25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25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25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25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25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25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25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25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25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25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25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25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25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25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25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25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25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25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25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25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25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25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25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25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25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25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25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25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25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How a Microscope Work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28280"/>
            <a:ext cx="83059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Using a number of lenses an image is magnified and viewed through an eyepiece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The magnification is the eye piece magnification multiplied by the objective lens magnification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Eg 10 x 4 = 40x magnificatio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How Does a Microscope Work_.mp4" descr=""/>
          <p:cNvPicPr/>
          <p:nvPr/>
        </p:nvPicPr>
        <p:blipFill>
          <a:blip r:embed="rId1"/>
          <a:stretch/>
        </p:blipFill>
        <p:spPr>
          <a:xfrm>
            <a:off x="38160" y="107640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1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Revision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28280"/>
            <a:ext cx="83059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Complete the following table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55640" y="2421000"/>
          <a:ext cx="6095880" cy="18540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Eyepiece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Objective Lens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Magnification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x5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x5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x25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x5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x10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x10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X100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de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x40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x400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3935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4411800"/>
            <a:ext cx="830592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Estimate the size of the cell in each of the fields of view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17227"/>
                </a:solidFill>
                <a:latin typeface="Arial Black"/>
              </a:rPr>
              <a:t>Cell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lls are the building blocks of life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y come in all shapes and size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ome organisms are made up of only one cell and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i-cellula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thers are made up of lots of cells and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lti-cellula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ontent Placeholder 2"/>
          <p:cNvSpPr/>
          <p:nvPr/>
        </p:nvSpPr>
        <p:spPr>
          <a:xfrm>
            <a:off x="611280" y="1073160"/>
            <a:ext cx="830412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VEN PROCESSES REQUIRED FOR LIFE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 ovement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 espiration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 ensitivity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G rowth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 eproduction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 xercise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 utrition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ntro to cells teacher tube.mp4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06:10:25Z</dcterms:created>
  <dc:creator>Administrator</dc:creator>
  <dc:description/>
  <dc:language>en-US</dc:language>
  <cp:lastModifiedBy>Peter Kos</cp:lastModifiedBy>
  <dcterms:modified xsi:type="dcterms:W3CDTF">2012-05-17T13:47:25Z</dcterms:modified>
  <cp:revision>47</cp:revision>
  <dc:subject/>
  <dc:title>Cells and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9391033</vt:lpwstr>
  </property>
</Properties>
</file>